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49424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4D1053-F838-4A95-8FCE-7D76EA9157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19F90F-2F15-4048-A310-EC5289D97B1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492F53-7267-4D3F-8353-E113E9B07C8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48C137-2AF7-4AB8-93EF-A564FE92791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13AE15-9221-44B6-9903-F0B23170BD7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3009A6-089B-4555-9F7F-0483C304B8D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637507-A451-4FF0-A6C3-20C113E0206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945193-BB0B-4818-BD11-C3330527F42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0235A0-4434-42E9-BB33-D68F2D177D3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05B33A-AA95-4C0F-8557-93ECDC89760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5186B5-21E3-4D12-9D68-5266D88EE6D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2EDBA7-979F-4767-B558-F2CE369EDE9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30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2B0844-EB56-4DE2-850F-871CD5F03FB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BBD6EA-02D1-4DB6-9E1B-DAAEF74C69B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5D7416-CE08-4E37-9D12-EDA3455F042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844104-D793-4EBF-8991-B33BE720DE9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36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2F2D07-3FC0-4A7F-B65C-79A6D7FA3DD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348757-F8EC-46DA-8A39-6BE1B9927B3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8FC84-6D20-43FB-972C-566018117D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0B23B-CBE8-486C-94C5-868350FDD8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BF3F5-6F36-44F7-9D0E-9AB044650F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B4781-842F-4232-A79D-1CEB3F2BB4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01864-C652-45C9-861A-701EE4CDE4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6F65D-4D86-4AF4-9152-FA091628334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053F8-DE05-414D-AACB-87C6C7BA739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55890-4CC9-4D3C-91EA-57338198BE1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19E02-4623-4F5B-99E8-6F6B5FE5C32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0D8FC-D81C-4FC2-9483-23BE6519E5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C12C7-1480-46BD-A9D1-6250CCFE07E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DFED4-F0A6-4A1A-9489-629932CC771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2AC97-234D-4BFB-8F96-19B8A25E047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DA1DD-55AA-42EE-8730-2100FCB0CD8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B3018-2862-4FAF-B984-13B361B3053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4E18B-C832-4ACA-8A83-6FFE3F8C55F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ED1E4-5E22-41EB-9A83-6B082482BEF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73B21-F557-4F4C-A752-799458BA95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54F1B-C5C3-4022-8B08-5383AC6C37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263A1-7B73-452E-BC00-AD1FF8D90D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75DDC-9F34-4425-B6C7-C4DCF8735A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B46D0-3362-40EF-82DA-F96D7A4E6B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4C769-B05A-4E06-8339-DD625471DE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69E08-7EC1-4E3A-B3C6-3260F5BCD8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25F35A-F182-4A4A-93EA-895D52B3FCB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56C2AB15-45D8-4BAE-9895-7F086B29953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uperset Parameter Value Specification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p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"/>
          <p:cNvSpPr/>
          <p:nvPr/>
        </p:nvSpPr>
        <p:spPr>
          <a:xfrm>
            <a:off x="685800" y="220680"/>
            <a:ext cx="823752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uperset Parameter Value Specific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tecting Unconsumed Parameters (R3.1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isting in a mod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traight Connector 28"/>
          <p:cNvSpPr/>
          <p:nvPr/>
        </p:nvSpPr>
        <p:spPr>
          <a:xfrm flipH="1">
            <a:off x="2284560" y="4572000"/>
            <a:ext cx="1440" cy="14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Rectangle 33"/>
          <p:cNvSpPr/>
          <p:nvPr/>
        </p:nvSpPr>
        <p:spPr>
          <a:xfrm>
            <a:off x="762120" y="4038480"/>
            <a:ext cx="24382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.h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Rectangle 34"/>
          <p:cNvSpPr/>
          <p:nvPr/>
        </p:nvSpPr>
        <p:spPr>
          <a:xfrm>
            <a:off x="6095880" y="4114800"/>
            <a:ext cx="26672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configurator.h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angle 37"/>
          <p:cNvSpPr/>
          <p:nvPr/>
        </p:nvSpPr>
        <p:spPr>
          <a:xfrm>
            <a:off x="457200" y="685800"/>
            <a:ext cx="2666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ain.cpp (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testbench fil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Rectangle 38"/>
          <p:cNvSpPr/>
          <p:nvPr/>
        </p:nvSpPr>
        <p:spPr>
          <a:xfrm>
            <a:off x="533520" y="990720"/>
            <a:ext cx="800100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he configuration file approach for assigning preset values to the cci-parameters.  (For further details, see ex17_Specifying_Parameter_Values_via_a_Configuration_File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Rectangle 40"/>
          <p:cNvSpPr/>
          <p:nvPr/>
        </p:nvSpPr>
        <p:spPr>
          <a:xfrm>
            <a:off x="2286000" y="2666880"/>
            <a:ext cx="48006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tiate the two modules 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WN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IGURAT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dule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89" name="Straight Arrow Connector 43"/>
          <p:cNvCxnSpPr>
            <a:stCxn id="188" idx="2"/>
            <a:endCxn id="184" idx="0"/>
          </p:cNvCxnSpPr>
          <p:nvPr/>
        </p:nvCxnSpPr>
        <p:spPr>
          <a:xfrm flipH="1">
            <a:off x="1980360" y="3352320"/>
            <a:ext cx="270612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0" name="Straight Arrow Connector 45"/>
          <p:cNvCxnSpPr>
            <a:stCxn id="188" idx="2"/>
            <a:endCxn id="185" idx="0"/>
          </p:cNvCxnSpPr>
          <p:nvPr/>
        </p:nvCxnSpPr>
        <p:spPr>
          <a:xfrm>
            <a:off x="4686480" y="3352320"/>
            <a:ext cx="274392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1" name="Rectangle 46"/>
          <p:cNvSpPr/>
          <p:nvPr/>
        </p:nvSpPr>
        <p:spPr>
          <a:xfrm>
            <a:off x="152280" y="4800600"/>
            <a:ext cx="42674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tiate the cci_parameters :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eter Name 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_param_1;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Value 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1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eter Name 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_param_2;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Value 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2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Rectangle 47"/>
          <p:cNvSpPr/>
          <p:nvPr/>
        </p:nvSpPr>
        <p:spPr>
          <a:xfrm>
            <a:off x="6113520" y="4992840"/>
            <a:ext cx="26668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 handle for broker: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_broker(cci::cci_get_broker()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Straight Connector 28"/>
          <p:cNvSpPr/>
          <p:nvPr/>
        </p:nvSpPr>
        <p:spPr>
          <a:xfrm flipH="1">
            <a:off x="7237440" y="4572000"/>
            <a:ext cx="1440" cy="14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AutoShape 15"/>
          <p:cNvSpPr/>
          <p:nvPr/>
        </p:nvSpPr>
        <p:spPr>
          <a:xfrm>
            <a:off x="6095880" y="1600200"/>
            <a:ext cx="2819520" cy="1143000"/>
          </a:xfrm>
          <a:prstGeom prst="flowChartDocumen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am_owner.int_param_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am_owner.int_param_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am_owner.int_param_3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am_owner.int_param_4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Rectangle 16"/>
          <p:cNvSpPr/>
          <p:nvPr/>
        </p:nvSpPr>
        <p:spPr>
          <a:xfrm>
            <a:off x="6629400" y="2666880"/>
            <a:ext cx="1633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figuration_Fi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Rectangle 19"/>
          <p:cNvSpPr/>
          <p:nvPr/>
        </p:nvSpPr>
        <p:spPr>
          <a:xfrm>
            <a:off x="590400" y="1827720"/>
            <a:ext cx="451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ci::cnf::cci_configFile_Tool configTool("configFileTool");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onfigTool.config("Configuration_File.txt");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Rectangle 2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AutoShape 1"/>
          <p:cNvSpPr/>
          <p:nvPr/>
        </p:nvSpPr>
        <p:spPr>
          <a:xfrm>
            <a:off x="685800" y="220680"/>
            <a:ext cx="823752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Rectangle 33"/>
          <p:cNvSpPr/>
          <p:nvPr/>
        </p:nvSpPr>
        <p:spPr>
          <a:xfrm>
            <a:off x="304920" y="914400"/>
            <a:ext cx="24382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.h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configurator.h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Rectangle 47"/>
          <p:cNvSpPr/>
          <p:nvPr/>
        </p:nvSpPr>
        <p:spPr>
          <a:xfrm>
            <a:off x="4038480" y="2882880"/>
            <a:ext cx="4800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tain list of unconsumed preset values: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consumed_parameter_list = m_broker.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_unconsumed_preset_values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Rectangle 13"/>
          <p:cNvSpPr/>
          <p:nvPr/>
        </p:nvSpPr>
        <p:spPr>
          <a:xfrm>
            <a:off x="2438280" y="2577960"/>
            <a:ext cx="19051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Within EOE phas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Rectangle 16"/>
          <p:cNvSpPr/>
          <p:nvPr/>
        </p:nvSpPr>
        <p:spPr>
          <a:xfrm>
            <a:off x="3200400" y="434340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@ 0 n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Rectangle 17"/>
          <p:cNvSpPr/>
          <p:nvPr/>
        </p:nvSpPr>
        <p:spPr>
          <a:xfrm>
            <a:off x="4038480" y="4572000"/>
            <a:ext cx="42674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 the list of parameter names for which there are unconsumed preset values: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_owner.int_param_3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_owner.int_param_4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Straight Connector 28"/>
          <p:cNvSpPr/>
          <p:nvPr/>
        </p:nvSpPr>
        <p:spPr>
          <a:xfrm flipH="1">
            <a:off x="1523520" y="1676520"/>
            <a:ext cx="1800" cy="14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Rectangle 15"/>
          <p:cNvSpPr/>
          <p:nvPr/>
        </p:nvSpPr>
        <p:spPr>
          <a:xfrm>
            <a:off x="4038480" y="1447920"/>
            <a:ext cx="51055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_param_handles(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retrieve list of all cci-parameters within model.  Store result in a std::vector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te_parameter_list =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_broker.get_param_handles(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Rectangle 1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AutoShape 1"/>
          <p:cNvSpPr/>
          <p:nvPr/>
        </p:nvSpPr>
        <p:spPr>
          <a:xfrm>
            <a:off x="685800" y="220680"/>
            <a:ext cx="823752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18_Superset_Parameter_Value_Specification.log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80880" y="1514160"/>
            <a:ext cx="86868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int_param_1' to '100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int_param_2' to '200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int_param_3' to '300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int_param_4' to '400‘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EOE] : List of all parameters in the mod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EOE] : Parameter Name : param_owner.int_param_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EOE] : Parameter Name : param_owner.int_param_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List of parameter names with unconsumed preset valu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Unconsumed Parameter Name : param_owner.int_param_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Unconsumed Parameter Name : param_owner.int_param_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7T15:40:57Z</dcterms:modified>
  <cp:revision>20</cp:revision>
  <dc:subject/>
  <dc:title>ex18_Superset_Parameter_Value_Specific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15:40:57Z</vt:lpwstr>
  </property>
  <property fmtid="{D5CDD505-2E9C-101B-9397-08002B2CF9AE}" pid="5" name="TitusGUID">
    <vt:lpwstr>407613b7-d1ea-43f3-af1c-aef363dad956</vt:lpwstr>
  </property>
</Properties>
</file>