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853920" y="744120"/>
            <a:ext cx="4959360" cy="37213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41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377784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B04EAE-3BA1-4B82-95B0-9719BCB480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163228-A6F7-4034-ACF1-81D53B3F2F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8D487C-D5DA-4371-9A8D-02C0C742126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Text Box 3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6560DD-BB79-412D-9686-CC8C20D8FE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7B2C6A-3D0C-4E49-9B91-C67C4C8DBA5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874299-1B6A-490C-B989-267BBB4A16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A68A74-DCA5-469F-ADAD-9FB475B7F10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D989FA-114B-4847-B606-71C1FA81D3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EA800B-0173-4D6F-90F4-C254C5EC33B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6FF83E-3655-40EF-91B7-B1109B14CC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68C3D4-E110-43E7-BE94-D87003B9001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DDFCAD-3F5C-41B8-A743-5FBA848531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4C02C1-4AA8-48F4-A2D8-DF3BCA368EF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7D392-FE50-4FD3-8E11-FBE46222AB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2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E854A-EE32-4678-A7E0-204BB2786E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156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ACDC5-B9F0-4799-B558-2675A9334D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740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428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740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428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6B534-ADFB-471C-84BF-A7C49F8103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5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A8806-732C-40C4-A848-5FB80130A0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156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2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156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740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428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740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428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95176-FBE9-4B15-9669-6A6ACFA1BF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AAE9B-9794-46F4-B47B-C1A628F048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0F72D-27B3-4644-9CF9-A11D470045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5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61DE2-1672-4B83-B3E7-F1FD0AAE3E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95025-9357-4AF3-99AB-228F061362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156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1F3D5-9B4F-465D-BC97-4378E18C42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79F88-80BE-4AD8-9141-6DDB089E5E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econd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Third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Fourth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337440"/>
            <a:ext cx="12175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936785-88B1-46F7-9093-615AAF0F2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efault vs. Preset Values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shal Go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efault vs. Preset values of a parame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Demonstrate relative precedence of default (supplied to parameter constructor) and preset (via name-based broker access prior to construction) valu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User module specifies some default value for different parameters in respective constructo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et one of the parameters to a different value from a tool/configurator, before the user module’s construc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Report the various parameters’ name (hierarchical) and value in the constructor and at the end of simul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Demonstrate the reporting of unconsumed preset values with filtering func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2141640" y="1546200"/>
            <a:ext cx="1989000" cy="420840"/>
          </a:xfrm>
          <a:prstGeom prst="rect">
            <a:avLst/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5" name="AutoShape 4"/>
          <p:cNvCxnSpPr>
            <a:stCxn id="93" idx="2"/>
          </p:cNvCxnSpPr>
          <p:nvPr/>
        </p:nvCxnSpPr>
        <p:spPr>
          <a:xfrm flipH="1">
            <a:off x="3134520" y="1966680"/>
            <a:ext cx="2520" cy="402660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AutoShape 5"/>
          <p:cNvCxnSpPr>
            <a:stCxn id="94" idx="2"/>
          </p:cNvCxnSpPr>
          <p:nvPr/>
        </p:nvCxnSpPr>
        <p:spPr>
          <a:xfrm flipH="1">
            <a:off x="6449760" y="1666800"/>
            <a:ext cx="2160" cy="436968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AutoShape 6"/>
          <p:cNvSpPr/>
          <p:nvPr/>
        </p:nvSpPr>
        <p:spPr>
          <a:xfrm>
            <a:off x="1138320" y="3097080"/>
            <a:ext cx="1735200" cy="3477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param_1=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236880" y="2008080"/>
            <a:ext cx="187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Constru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3176640" y="2743200"/>
            <a:ext cx="2979720" cy="2649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ff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param_1(“param_1”, 1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9"/>
          <p:cNvSpPr/>
          <p:nvPr/>
        </p:nvSpPr>
        <p:spPr>
          <a:xfrm>
            <a:off x="797040" y="5433840"/>
            <a:ext cx="2173320" cy="55908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param_1, param_2 ‘Owner’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10"/>
          <p:cNvSpPr/>
          <p:nvPr/>
        </p:nvSpPr>
        <p:spPr>
          <a:xfrm>
            <a:off x="4068720" y="538956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param_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11"/>
          <p:cNvSpPr/>
          <p:nvPr/>
        </p:nvSpPr>
        <p:spPr>
          <a:xfrm>
            <a:off x="3179880" y="3076560"/>
            <a:ext cx="2979720" cy="26208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param_2(“param_2”, 2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12"/>
          <p:cNvSpPr/>
          <p:nvPr/>
        </p:nvSpPr>
        <p:spPr>
          <a:xfrm>
            <a:off x="1173240" y="3537000"/>
            <a:ext cx="1735200" cy="3477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param_2=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13"/>
          <p:cNvSpPr/>
          <p:nvPr/>
        </p:nvSpPr>
        <p:spPr>
          <a:xfrm>
            <a:off x="4572000" y="1960560"/>
            <a:ext cx="4444920" cy="30492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preset_cci_value(“sim_ip.param_1”, “10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14"/>
          <p:cNvSpPr/>
          <p:nvPr/>
        </p:nvSpPr>
        <p:spPr>
          <a:xfrm>
            <a:off x="6742080" y="4149720"/>
            <a:ext cx="1933560" cy="763560"/>
          </a:xfrm>
          <a:prstGeom prst="wedgeRoundRectCallout">
            <a:avLst>
              <a:gd name="adj1" fmla="val -77194"/>
              <a:gd name="adj2" fmla="val -204425"/>
              <a:gd name="adj3" fmla="val 16667"/>
            </a:avLst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reset value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takes precedence over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efault value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(see param_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13"/>
          <p:cNvSpPr/>
          <p:nvPr/>
        </p:nvSpPr>
        <p:spPr>
          <a:xfrm>
            <a:off x="4572000" y="2290680"/>
            <a:ext cx="4444920" cy="30492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preset_cci_value(“cfg_ip.param_implicit_3”, “3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14"/>
          <p:cNvSpPr/>
          <p:nvPr/>
        </p:nvSpPr>
        <p:spPr>
          <a:xfrm>
            <a:off x="6948360" y="2976480"/>
            <a:ext cx="2119320" cy="244440"/>
          </a:xfrm>
          <a:prstGeom prst="wedgeRoundRectCallout">
            <a:avLst>
              <a:gd name="adj1" fmla="val -42587"/>
              <a:gd name="adj2" fmla="val -200282"/>
              <a:gd name="adj3" fmla="val 16667"/>
            </a:avLst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Unconsumed preset val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2133720" y="1246320"/>
            <a:ext cx="1989000" cy="420480"/>
          </a:xfrm>
          <a:prstGeom prst="rect">
            <a:avLst/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1" name="AutoShape 4"/>
          <p:cNvCxnSpPr>
            <a:stCxn id="109" idx="2"/>
          </p:cNvCxnSpPr>
          <p:nvPr/>
        </p:nvCxnSpPr>
        <p:spPr>
          <a:xfrm>
            <a:off x="3126960" y="1666440"/>
            <a:ext cx="2520" cy="432684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AutoShape 5"/>
          <p:cNvCxnSpPr>
            <a:stCxn id="110" idx="2"/>
          </p:cNvCxnSpPr>
          <p:nvPr/>
        </p:nvCxnSpPr>
        <p:spPr>
          <a:xfrm flipH="1">
            <a:off x="6449760" y="1666800"/>
            <a:ext cx="2160" cy="436968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Text Box 7"/>
          <p:cNvSpPr/>
          <p:nvPr/>
        </p:nvSpPr>
        <p:spPr>
          <a:xfrm>
            <a:off x="241560" y="1697040"/>
            <a:ext cx="162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Simu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9"/>
          <p:cNvSpPr/>
          <p:nvPr/>
        </p:nvSpPr>
        <p:spPr>
          <a:xfrm>
            <a:off x="797040" y="5433840"/>
            <a:ext cx="2173320" cy="55908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param_1, param_2 ‘Owner’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10"/>
          <p:cNvSpPr/>
          <p:nvPr/>
        </p:nvSpPr>
        <p:spPr>
          <a:xfrm>
            <a:off x="4068720" y="538956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param_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15"/>
          <p:cNvSpPr/>
          <p:nvPr/>
        </p:nvSpPr>
        <p:spPr>
          <a:xfrm>
            <a:off x="5391000" y="2036880"/>
            <a:ext cx="3456000" cy="3045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cci-&gt;set_init_value(“sim_ip.param_1”, “5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6"/>
          <p:cNvSpPr/>
          <p:nvPr/>
        </p:nvSpPr>
        <p:spPr>
          <a:xfrm>
            <a:off x="6659640" y="2736720"/>
            <a:ext cx="2222280" cy="763560"/>
          </a:xfrm>
          <a:prstGeom prst="wedgeRoundRectCallout">
            <a:avLst>
              <a:gd name="adj1" fmla="val 48055"/>
              <a:gd name="adj2" fmla="val -107018"/>
              <a:gd name="adj3" fmla="val 16667"/>
            </a:avLst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reset value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set after construction does not affect parameter val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13"/>
          <p:cNvSpPr/>
          <p:nvPr/>
        </p:nvSpPr>
        <p:spPr>
          <a:xfrm>
            <a:off x="755640" y="2521080"/>
            <a:ext cx="4392720" cy="3045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init_value(“param_implicit_1”, “1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13"/>
          <p:cNvSpPr/>
          <p:nvPr/>
        </p:nvSpPr>
        <p:spPr>
          <a:xfrm>
            <a:off x="755640" y="2876400"/>
            <a:ext cx="4392720" cy="30492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init_value(“foo.bar.baz.param_implicit_2”, “2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ight Brace 2"/>
          <p:cNvSpPr/>
          <p:nvPr/>
        </p:nvSpPr>
        <p:spPr>
          <a:xfrm>
            <a:off x="5148360" y="2635200"/>
            <a:ext cx="187200" cy="482760"/>
          </a:xfrm>
          <a:custGeom>
            <a:avLst/>
            <a:gdLst>
              <a:gd name="textAreaLeft" fmla="*/ 0 w 187200"/>
              <a:gd name="textAreaRight" fmla="*/ 67680 w 187200"/>
              <a:gd name="textAreaTop" fmla="*/ 4680 h 482760"/>
              <a:gd name="textAreaBottom" fmla="*/ 478080 h 48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50"/>
                  <a:pt x="10800" y="699"/>
                </a:cubicBezTo>
                <a:lnTo>
                  <a:pt x="10800" y="10448"/>
                </a:lnTo>
                <a:cubicBezTo>
                  <a:pt x="10800" y="10798"/>
                  <a:pt x="16200" y="11147"/>
                  <a:pt x="21600" y="11147"/>
                </a:cubicBezTo>
                <a:cubicBezTo>
                  <a:pt x="16200" y="11147"/>
                  <a:pt x="10800" y="11497"/>
                  <a:pt x="10800" y="11846"/>
                </a:cubicBezTo>
                <a:lnTo>
                  <a:pt x="10800" y="20901"/>
                </a:lnTo>
                <a:cubicBezTo>
                  <a:pt x="10800" y="21251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14"/>
          <p:cNvSpPr/>
          <p:nvPr/>
        </p:nvSpPr>
        <p:spPr>
          <a:xfrm>
            <a:off x="3851280" y="3446640"/>
            <a:ext cx="2195640" cy="342720"/>
          </a:xfrm>
          <a:prstGeom prst="wedgeRoundRectCallout">
            <a:avLst>
              <a:gd name="adj1" fmla="val 20902"/>
              <a:gd name="adj2" fmla="val -218759"/>
              <a:gd name="adj3" fmla="val 16667"/>
            </a:avLst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Unconsumed preset valu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n-US" sz="3000" spc="-1" strike="noStrike">
                <a:solidFill>
                  <a:srgbClr val="000099"/>
                </a:solidFill>
                <a:latin typeface="Courier New"/>
              </a:rPr>
              <a:t>ex05_Default_and_Preset_Value.log</a:t>
            </a: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380880" y="1413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SystemC Simul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cfg_ip: @0 s, Attempting to setup config_ip to 10 before IP constr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cfg_ip: @0 s, Setting up sim_ip.param_1's preset value to 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cfg_ip: @0 s, Setting up cfg_ip.param_implicit_3's preset value to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@Ctor: Value of sim_ip.param_1 is 10 (Default value Specified: 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@Ctor: Value of sim_ip.param_2 is 2 (Default value Specified: 2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c_main: Begin Simul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cfg_ip: @0 s, execute: [EXTERNAL] Current value of sim_ip.param_1 is 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Setting up param_implicit_1's preset value to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Setting up foo.bar.baz.param_implicit_2's preset value to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Unconsumed preset cci value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cfg_ip.param_implicit_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foo.bar.baz.param_implicit_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param_implicit_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Ignore unconsumed values cfg_ip.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Unconsumed preset cci values result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380880" y="134136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foo.bar.baz.param_implicit_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param_implicit_1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Unconsumed preset cci values with value = 2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foo.bar.baz.param_implicit_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c_main: End Simulation.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Dtor: Value of sim_ip.param_1 is 10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Dtor: Value of sim_ip.param_2 is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17-01-29T17:21:23Z</cp:lastPrinted>
  <dcterms:modified xsi:type="dcterms:W3CDTF">2017-12-15T17:44:00Z</dcterms:modified>
  <cp:revision>158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5 17:43:59Z</vt:lpwstr>
  </property>
  <property fmtid="{D5CDD505-2E9C-101B-9397-08002B2CF9AE}" pid="5" name="TitusGUID">
    <vt:lpwstr>76883866-3039-4c24-b240-4506b7a28644</vt:lpwstr>
  </property>
</Properties>
</file>