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B67E-731C-4A06-9262-D13A4180B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AE2B-76E8-4EC8-B3FC-F6AEB61DD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6D29-231D-4DB6-B0C2-F072361EA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1991-1D5B-4F71-A26B-D9B8CDA19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DE43-BF6C-42E6-96F9-279702FFC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B3356-D57F-44C2-A051-FC1F608F8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07594-A3F6-4D28-950E-F4D64470FA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4BB53-7252-47A5-88A5-B90D6AA455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259DD-8D68-4252-B55C-F54ACB6ACB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ACD0D-97FC-4FEA-A45F-6E3109F02C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4B36A-F004-4197-A140-69E06B8DE6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92F38-9ADC-4174-B34C-1FBD56A77A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C949A-7EA6-481C-9F9D-AF7E74A4B2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EAA5B-997A-4754-A326-0661C9187F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FB67A-A5BE-4152-8822-7B4F8E9B73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6A9D2-871B-4D69-8022-1036A65EA5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8C10F-041D-45E5-80DF-1855C652BC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FCF2-B63B-4A4E-ABED-F9FF1058E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laboration Time Parameter Example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daya Ranga L.V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Elaboration-Time Parameter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f structural paramete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ing of invalid (post-elaboration) updates to structural parameter valu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e how models that finalize their structure prior to end_of_elaboration should lock their elaboration-time parameter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br>
              <a:rPr sz="1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monstrates how models that finalize their structure prior to end_of_elaboration should lock their elaboration-time parameters. 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32080" y="216360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0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44960" y="177624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CTO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77360" y="36464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07880" y="3011400"/>
            <a:ext cx="1486440" cy="155160"/>
            <a:chOff x="3107880" y="3011400"/>
            <a:chExt cx="1486440" cy="155160"/>
          </a:xfrm>
        </p:grpSpPr>
        <p:sp>
          <p:nvSpPr>
            <p:cNvPr id="100" name="Rectangle 32"/>
            <p:cNvSpPr/>
            <p:nvPr/>
          </p:nvSpPr>
          <p:spPr>
            <a:xfrm>
              <a:off x="3129120" y="30114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07880" y="31629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42880" y="393552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476640" y="438156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4" name="Straight Arrow Connector 39"/>
          <p:cNvCxnSpPr/>
          <p:nvPr/>
        </p:nvCxnSpPr>
        <p:spPr>
          <a:xfrm flipH="1" flipV="1">
            <a:off x="3129840" y="4656960"/>
            <a:ext cx="3313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" name="Folded Corner 40"/>
          <p:cNvSpPr/>
          <p:nvPr/>
        </p:nvSpPr>
        <p:spPr>
          <a:xfrm>
            <a:off x="1477800" y="4802040"/>
            <a:ext cx="1495440" cy="343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Folded Corner 42"/>
          <p:cNvSpPr/>
          <p:nvPr/>
        </p:nvSpPr>
        <p:spPr>
          <a:xfrm>
            <a:off x="3216240" y="2631960"/>
            <a:ext cx="160344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uc_pa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Folded Corner 43"/>
          <p:cNvSpPr/>
          <p:nvPr/>
        </p:nvSpPr>
        <p:spPr>
          <a:xfrm>
            <a:off x="3502080" y="4191120"/>
            <a:ext cx="2886120" cy="4111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_param_handle.set_cci_value(cci::cci_value::from_json("3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truc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struc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27"/>
          <p:cNvSpPr/>
          <p:nvPr/>
        </p:nvSpPr>
        <p:spPr>
          <a:xfrm>
            <a:off x="477720" y="2744640"/>
            <a:ext cx="26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Before end of elabor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Group 35"/>
          <p:cNvGrpSpPr/>
          <p:nvPr/>
        </p:nvGrpSpPr>
        <p:grpSpPr>
          <a:xfrm>
            <a:off x="3107880" y="3903840"/>
            <a:ext cx="1486440" cy="156600"/>
            <a:chOff x="3107880" y="3903840"/>
            <a:chExt cx="1486440" cy="156600"/>
          </a:xfrm>
        </p:grpSpPr>
        <p:sp>
          <p:nvSpPr>
            <p:cNvPr id="112" name="Rectangle 32"/>
            <p:cNvSpPr/>
            <p:nvPr/>
          </p:nvSpPr>
          <p:spPr>
            <a:xfrm>
              <a:off x="3129120" y="3903840"/>
              <a:ext cx="1465200" cy="15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3" name="Straight Arrow Connector 34"/>
            <p:cNvCxnSpPr/>
            <p:nvPr/>
          </p:nvCxnSpPr>
          <p:spPr>
            <a:xfrm flipH="1" flipV="1">
              <a:off x="3107880" y="405684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4" name="Folded Corner 42"/>
          <p:cNvSpPr/>
          <p:nvPr/>
        </p:nvSpPr>
        <p:spPr>
          <a:xfrm>
            <a:off x="3216240" y="3532320"/>
            <a:ext cx="161280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uc_pa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Folded Corner 26"/>
          <p:cNvSpPr/>
          <p:nvPr/>
        </p:nvSpPr>
        <p:spPr>
          <a:xfrm>
            <a:off x="1519200" y="308772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Folded Corner 42"/>
          <p:cNvSpPr/>
          <p:nvPr/>
        </p:nvSpPr>
        <p:spPr>
          <a:xfrm>
            <a:off x="3216240" y="1792440"/>
            <a:ext cx="186840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_param&lt;int&gt; struc_param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03_Elab_Time_Param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0880" y="1588680"/>
            <a:ext cx="868680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Ctor: Default value of sim_ip.struc_param is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Before_End_Elab: Set value of struc_param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Before_End_Elab: Value of struc_param changed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Set value of struc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lock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Value of struc_param unchanged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Set value of sim_ip.struc_param to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 lock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cfg_ip.execute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Value of sim_ip.struc_param remains unchanged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Dtor: Current value of sim_ip.struc_param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32:41Z</cp:lastPrinted>
  <dcterms:modified xsi:type="dcterms:W3CDTF">2017-11-15T21:03:03Z</dcterms:modified>
  <cp:revision>173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1-15 21:03:03Z</vt:lpwstr>
  </property>
  <property fmtid="{D5CDD505-2E9C-101B-9397-08002B2CF9AE}" pid="5" name="TitusGUID">
    <vt:lpwstr>547c93aa-b014-4213-b6ae-5ea969590b9c</vt:lpwstr>
  </property>
</Properties>
</file>