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61FC-DA26-4887-BF0A-2AA239A7A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D14D-4C35-47C7-A137-ECA50BEFEB26}"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0DC54-3D36-45BA-B4FF-59472E9C5103}"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D84EE-4A8B-4526-970F-F7A2CC2EB9BF}"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AA2C-8662-415F-8BDA-5416B880784F}"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3B317-4300-4F92-B90D-D3E59FD62EE7}"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AAD4D-6B18-4D00-AFDC-3303F4B8A947}"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9EF86-00E5-42A6-879F-DF8432D0B571}"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714D08-92AD-4A4E-82D2-8FF2B8E8A0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CA5BB90F-7E36-4987-9AB2-F4B9B9ABF2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8E693E66-EE1C-4C9A-AFE7-E28C97778F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403B32B7-9C86-4AE3-9F8C-590EBF55D4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2FEBC47-71B8-4112-8DAC-6F41D811C0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ED070FB-FFFA-41CC-BBA0-374C552CFE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42C2DA25-90D7-4A4E-9B58-8E3D5B855E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E5EB5921-71E8-43A0-9F7D-69C442F6EF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BD07D0C-3592-4C12-A3DD-E5C1186607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82297DF-69F2-42D3-94CD-0AE544886E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4150EC62-5C49-49CA-B5BA-A49ED25D83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4A0A9D10-D4B7-462D-809E-CEBAA02AE0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27B5-0C70-48E7-8B52-9A7BA718CBB6}"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Anna Keist, Bill Bunton, Charles Wilson</dc:creator>
  <dc:description/>
  <cp:keywords>CTPClassification=CTP_IC:VisualMarkings=</cp:keywords>
  <dc:language>en-US</dc:language>
  <cp:lastModifiedBy>Wieman, Trevor</cp:lastModifiedBy>
  <cp:lastPrinted>2017-01-29T16:57:19Z</cp:lastPrinted>
  <dcterms:modified xsi:type="dcterms:W3CDTF">2017-12-15T18:26:28Z</dcterms:modified>
  <cp:revision>205</cp:revision>
  <dc:subject/>
  <dc:title>AT Basic System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18:26:28Z</vt:lpwstr>
  </property>
  <property fmtid="{D5CDD505-2E9C-101B-9397-08002B2CF9AE}" pid="5" name="TitusGUID">
    <vt:lpwstr>9f9fe614-12e3-468e-844d-31a586ac192b</vt:lpwstr>
  </property>
</Properties>
</file>