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EB7B-7199-4E06-8E93-CCE8D9ADD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F7C6-4A48-4E5C-A026-C84DEA7A7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6702-2C2D-4EAE-8F67-669AAD56C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1DAA-D99E-4F61-96D7-0698D1ED5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E986-1A75-49B6-B0C5-E46386E6F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620C5-B961-4370-BA60-4FD4E86BB5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39C9C-1E35-44B8-9616-A7858E8A0F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68DDF-0616-4212-8032-A5E7EE902F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3BE91-377D-434D-87EB-6B7B44FDE5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7D919-C9D1-4B33-8577-6F0291AD73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8A52D-2FDB-49E4-B999-04E6A39344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99FC4-BAE9-4B03-8548-9D4A1AB199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A43F0-6775-4EAE-B76F-DD98CC082B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DFB4A-6427-4286-9E5B-76F8633036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D9E35-BF09-4497-9350-959BB02F6D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3DD51-1175-4EC1-BEFB-8407834DB8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00049-9E19-48E4-AEA6-52419FA529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CA8C-BF34-4540-962B-FF1FE13B4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4T22:13:32Z</dcterms:modified>
  <cp:revision>84</cp:revision>
  <dc:subject/>
  <dc:title>AT Basic System Example</dc:title>
</cp:coreProperties>
</file>