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D5C1D-CAEA-41D3-8757-13C0BA104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3ADD7-5EB7-4FD2-92D5-2A8B5BBD6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B20EB-9285-49B5-8567-A55A62576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F0D2-6BCE-4FFD-B205-B6B816BE1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E416A-C715-4F38-9FBE-A3777C317D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A6158-77BE-4DE6-9A44-85BABDBB1E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475D2-CB2E-4699-954D-4CC3E6FC9D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F2E92-8267-4059-9553-0756726F05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78564-6187-4BFF-9368-B55F0F8B34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2B179-DE42-45A5-9F02-72E8DA3E6B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C16BC-A30C-4E5E-8652-95BBD9FE1E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8B324-4AD8-4FC9-940A-98AA694768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CD84D-0DFF-4A0C-B27A-702A384BB6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FC8AA-C764-4CDE-AE8B-15A36A499D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6E541-FB42-4339-A6F2-C8D0B9EB1C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1873B-D900-4F5A-BD3E-79C85456A2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60991-6D28-4AE3-918C-A304129F23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Charles Wilson</cp:lastModifiedBy>
  <cp:lastPrinted>2008-06-04T21:47:01Z</cp:lastPrinted>
  <dcterms:modified xsi:type="dcterms:W3CDTF">2008-06-05T21:29:01Z</dcterms:modified>
  <cp:revision>86</cp:revision>
  <dc:subject/>
  <dc:title>AT Basic System Example</dc:title>
</cp:coreProperties>
</file>